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90A5-1897-4871-8779-BD2563D8A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E832-2E74-4BDF-8750-FFF0E5A8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4A96-F41F-44D3-A399-2968F4D1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C232-EDFE-4784-9859-4F73C9A31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C53B-5244-455D-B193-8C57FFD7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A116-2886-4A95-A59B-58CA5E8E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2185-7336-4A22-AC88-B9EFD38F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A018-9436-44CA-8F12-D3625DE1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DEA6-1D61-496F-952D-C6DC6048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E075-7803-412E-8FE3-A917FB3A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B66B-6D2C-4D3F-8958-9A1EEE04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F512-8E7E-40E1-9A23-5A3C374C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6911-F1CF-46E0-B5D8-C47406F3D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19920" y="5715000"/>
            <a:ext cx="2438280" cy="685800"/>
          </a:xfrm>
          <a:custGeom>
            <a:avLst/>
            <a:gdLst>
              <a:gd name="textAreaLeft" fmla="*/ 44280 w 2438280"/>
              <a:gd name="textAreaRight" fmla="*/ 2394000 w 24382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6767" h="21600">
                <a:moveTo>
                  <a:pt x="0" y="0"/>
                </a:moveTo>
                <a:lnTo>
                  <a:pt x="76767" y="0"/>
                </a:lnTo>
                <a:lnTo>
                  <a:pt x="76767" y="21600"/>
                </a:lnTo>
                <a:lnTo>
                  <a:pt x="0" y="21600"/>
                </a:lnTo>
                <a:close/>
              </a:path>
              <a:path fill="lightenLess" w="76767" h="21600">
                <a:moveTo>
                  <a:pt x="0" y="0"/>
                </a:moveTo>
                <a:lnTo>
                  <a:pt x="76767" y="0"/>
                </a:lnTo>
                <a:lnTo>
                  <a:pt x="75367" y="1400"/>
                </a:lnTo>
                <a:lnTo>
                  <a:pt x="1400" y="1400"/>
                </a:lnTo>
                <a:close/>
              </a:path>
              <a:path fill="darken" w="76767" h="21600">
                <a:moveTo>
                  <a:pt x="76767" y="0"/>
                </a:moveTo>
                <a:lnTo>
                  <a:pt x="76767" y="21600"/>
                </a:lnTo>
                <a:lnTo>
                  <a:pt x="75367" y="20200"/>
                </a:lnTo>
                <a:lnTo>
                  <a:pt x="75367" y="1400"/>
                </a:lnTo>
                <a:close/>
              </a:path>
              <a:path fill="darkenLess" w="76767" h="21600">
                <a:moveTo>
                  <a:pt x="767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67" y="20200"/>
                </a:lnTo>
                <a:close/>
              </a:path>
              <a:path fill="lighten" w="767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Star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5280" y="457200"/>
            <a:ext cx="85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you know about your state of Pennsylvan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219320"/>
            <a:ext cx="1676160" cy="457200"/>
          </a:xfrm>
          <a:custGeom>
            <a:avLst/>
            <a:gdLst>
              <a:gd name="textAreaLeft" fmla="*/ 29520 w 1676160"/>
              <a:gd name="textAreaRight" fmla="*/ 1646640 w 1676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43" h="21600">
                <a:moveTo>
                  <a:pt x="0" y="0"/>
                </a:moveTo>
                <a:lnTo>
                  <a:pt x="79143" y="0"/>
                </a:lnTo>
                <a:lnTo>
                  <a:pt x="79143" y="21600"/>
                </a:lnTo>
                <a:lnTo>
                  <a:pt x="0" y="21600"/>
                </a:lnTo>
                <a:close/>
              </a:path>
              <a:path fill="lightenLess" w="79143" h="21600">
                <a:moveTo>
                  <a:pt x="0" y="0"/>
                </a:moveTo>
                <a:lnTo>
                  <a:pt x="79143" y="0"/>
                </a:lnTo>
                <a:lnTo>
                  <a:pt x="77743" y="1400"/>
                </a:lnTo>
                <a:lnTo>
                  <a:pt x="1400" y="1400"/>
                </a:lnTo>
                <a:close/>
              </a:path>
              <a:path fill="darken" w="79143" h="21600">
                <a:moveTo>
                  <a:pt x="79143" y="0"/>
                </a:moveTo>
                <a:lnTo>
                  <a:pt x="79143" y="21600"/>
                </a:lnTo>
                <a:lnTo>
                  <a:pt x="77743" y="20200"/>
                </a:lnTo>
                <a:lnTo>
                  <a:pt x="77743" y="1400"/>
                </a:lnTo>
                <a:close/>
              </a:path>
              <a:path fill="darkenLess" w="79143" h="21600">
                <a:moveTo>
                  <a:pt x="79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43" y="20200"/>
                </a:lnTo>
                <a:close/>
              </a:path>
              <a:path fill="lighten" w="79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49720" y="457200"/>
            <a:ext cx="579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cts about Pennsylv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121932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An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95680" y="129528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Be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05720" y="1295280"/>
            <a:ext cx="1676160" cy="457200"/>
          </a:xfrm>
          <a:custGeom>
            <a:avLst/>
            <a:gdLst>
              <a:gd name="textAreaLeft" fmla="*/ 29520 w 1676160"/>
              <a:gd name="textAreaRight" fmla="*/ 1646640 w 1676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43" h="21600">
                <a:moveTo>
                  <a:pt x="0" y="0"/>
                </a:moveTo>
                <a:lnTo>
                  <a:pt x="79143" y="0"/>
                </a:lnTo>
                <a:lnTo>
                  <a:pt x="79143" y="21600"/>
                </a:lnTo>
                <a:lnTo>
                  <a:pt x="0" y="21600"/>
                </a:lnTo>
                <a:close/>
              </a:path>
              <a:path fill="lightenLess" w="79143" h="21600">
                <a:moveTo>
                  <a:pt x="0" y="0"/>
                </a:moveTo>
                <a:lnTo>
                  <a:pt x="79143" y="0"/>
                </a:lnTo>
                <a:lnTo>
                  <a:pt x="77743" y="1400"/>
                </a:lnTo>
                <a:lnTo>
                  <a:pt x="1400" y="1400"/>
                </a:lnTo>
                <a:close/>
              </a:path>
              <a:path fill="darken" w="79143" h="21600">
                <a:moveTo>
                  <a:pt x="79143" y="0"/>
                </a:moveTo>
                <a:lnTo>
                  <a:pt x="79143" y="21600"/>
                </a:lnTo>
                <a:lnTo>
                  <a:pt x="77743" y="20200"/>
                </a:lnTo>
                <a:lnTo>
                  <a:pt x="77743" y="1400"/>
                </a:lnTo>
                <a:close/>
              </a:path>
              <a:path fill="darkenLess" w="79143" h="21600">
                <a:moveTo>
                  <a:pt x="79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43" y="20200"/>
                </a:lnTo>
                <a:close/>
              </a:path>
              <a:path fill="lighten" w="79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67480" y="335268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F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924680" y="213372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924680" y="44197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5562720"/>
            <a:ext cx="1447560" cy="45720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52" h="21600">
                <a:moveTo>
                  <a:pt x="0" y="0"/>
                </a:moveTo>
                <a:lnTo>
                  <a:pt x="68352" y="0"/>
                </a:lnTo>
                <a:lnTo>
                  <a:pt x="68352" y="21600"/>
                </a:lnTo>
                <a:lnTo>
                  <a:pt x="0" y="21600"/>
                </a:lnTo>
                <a:close/>
              </a:path>
              <a:path fill="lightenLess" w="68352" h="21600">
                <a:moveTo>
                  <a:pt x="0" y="0"/>
                </a:moveTo>
                <a:lnTo>
                  <a:pt x="68352" y="0"/>
                </a:lnTo>
                <a:lnTo>
                  <a:pt x="66952" y="1400"/>
                </a:lnTo>
                <a:lnTo>
                  <a:pt x="1400" y="1400"/>
                </a:lnTo>
                <a:close/>
              </a:path>
              <a:path fill="darken" w="68352" h="21600">
                <a:moveTo>
                  <a:pt x="68352" y="0"/>
                </a:moveTo>
                <a:lnTo>
                  <a:pt x="68352" y="21600"/>
                </a:lnTo>
                <a:lnTo>
                  <a:pt x="66952" y="20200"/>
                </a:lnTo>
                <a:lnTo>
                  <a:pt x="66952" y="1400"/>
                </a:lnTo>
                <a:close/>
              </a:path>
              <a:path fill="darkenLess" w="68352" h="21600">
                <a:moveTo>
                  <a:pt x="68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52" y="20200"/>
                </a:lnTo>
                <a:close/>
              </a:path>
              <a:path fill="lighten" w="68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Ins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4280" y="5562720"/>
            <a:ext cx="1219320" cy="457200"/>
          </a:xfrm>
          <a:custGeom>
            <a:avLst/>
            <a:gdLst>
              <a:gd name="textAreaLeft" fmla="*/ 29520 w 1219320"/>
              <a:gd name="textAreaRight" fmla="*/ 1189800 w 12193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77" h="21600">
                <a:moveTo>
                  <a:pt x="0" y="0"/>
                </a:moveTo>
                <a:lnTo>
                  <a:pt x="57577" y="0"/>
                </a:lnTo>
                <a:lnTo>
                  <a:pt x="57577" y="21600"/>
                </a:lnTo>
                <a:lnTo>
                  <a:pt x="0" y="21600"/>
                </a:lnTo>
                <a:close/>
              </a:path>
              <a:path fill="lightenLess" w="57577" h="21600">
                <a:moveTo>
                  <a:pt x="0" y="0"/>
                </a:moveTo>
                <a:lnTo>
                  <a:pt x="57577" y="0"/>
                </a:lnTo>
                <a:lnTo>
                  <a:pt x="56177" y="1400"/>
                </a:lnTo>
                <a:lnTo>
                  <a:pt x="1400" y="1400"/>
                </a:lnTo>
                <a:close/>
              </a:path>
              <a:path fill="darken" w="57577" h="21600">
                <a:moveTo>
                  <a:pt x="57577" y="0"/>
                </a:moveTo>
                <a:lnTo>
                  <a:pt x="57577" y="21600"/>
                </a:lnTo>
                <a:lnTo>
                  <a:pt x="56177" y="20200"/>
                </a:lnTo>
                <a:lnTo>
                  <a:pt x="56177" y="1400"/>
                </a:lnTo>
                <a:close/>
              </a:path>
              <a:path fill="darkenLess" w="57577" h="21600">
                <a:moveTo>
                  <a:pt x="57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7" y="20200"/>
                </a:lnTo>
                <a:close/>
              </a:path>
              <a:path fill="lighten" w="57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556272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S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556272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96252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2362320"/>
            <a:ext cx="685800" cy="9144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14400"/>
              <a:gd name="textAreaBottom" fmla="*/ 870120 h 914400"/>
            </a:gdLst>
            <a:ahLst/>
            <a:rect l="textAreaLeft" t="textAreaTop" r="textAreaRight" b="textAreaBottom"/>
            <a:pathLst>
              <a:path w="21600" h="28796">
                <a:moveTo>
                  <a:pt x="0" y="0"/>
                </a:moveTo>
                <a:lnTo>
                  <a:pt x="21600" y="0"/>
                </a:lnTo>
                <a:lnTo>
                  <a:pt x="21600" y="28796"/>
                </a:lnTo>
                <a:lnTo>
                  <a:pt x="0" y="28796"/>
                </a:lnTo>
                <a:close/>
              </a:path>
              <a:path fill="lightenLess" w="21600" h="287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6">
                <a:moveTo>
                  <a:pt x="21600" y="0"/>
                </a:moveTo>
                <a:lnTo>
                  <a:pt x="21600" y="28796"/>
                </a:lnTo>
                <a:lnTo>
                  <a:pt x="20200" y="27396"/>
                </a:lnTo>
                <a:lnTo>
                  <a:pt x="20200" y="1400"/>
                </a:lnTo>
                <a:close/>
              </a:path>
              <a:path fill="darkenLess" w="21600" h="28796">
                <a:moveTo>
                  <a:pt x="21600" y="28796"/>
                </a:moveTo>
                <a:lnTo>
                  <a:pt x="0" y="28796"/>
                </a:lnTo>
                <a:lnTo>
                  <a:pt x="1400" y="27396"/>
                </a:lnTo>
                <a:lnTo>
                  <a:pt x="20200" y="27396"/>
                </a:lnTo>
                <a:close/>
              </a:path>
              <a:path fill="lighten" w="21600" h="28796">
                <a:moveTo>
                  <a:pt x="0" y="287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6248520"/>
            <a:ext cx="4191120" cy="380880"/>
          </a:xfrm>
          <a:custGeom>
            <a:avLst/>
            <a:gdLst>
              <a:gd name="textAreaLeft" fmla="*/ 24480 w 4191120"/>
              <a:gd name="textAreaRight" fmla="*/ 4166640 w 419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7478" h="21600">
                <a:moveTo>
                  <a:pt x="0" y="0"/>
                </a:moveTo>
                <a:lnTo>
                  <a:pt x="237478" y="0"/>
                </a:lnTo>
                <a:lnTo>
                  <a:pt x="237478" y="21600"/>
                </a:lnTo>
                <a:lnTo>
                  <a:pt x="0" y="21600"/>
                </a:lnTo>
                <a:close/>
              </a:path>
              <a:path fill="lightenLess" w="237478" h="21600">
                <a:moveTo>
                  <a:pt x="0" y="0"/>
                </a:moveTo>
                <a:lnTo>
                  <a:pt x="237478" y="0"/>
                </a:lnTo>
                <a:lnTo>
                  <a:pt x="236078" y="1400"/>
                </a:lnTo>
                <a:lnTo>
                  <a:pt x="1400" y="1400"/>
                </a:lnTo>
                <a:close/>
              </a:path>
              <a:path fill="darken" w="237478" h="21600">
                <a:moveTo>
                  <a:pt x="237478" y="0"/>
                </a:moveTo>
                <a:lnTo>
                  <a:pt x="237478" y="21600"/>
                </a:lnTo>
                <a:lnTo>
                  <a:pt x="236078" y="20200"/>
                </a:lnTo>
                <a:lnTo>
                  <a:pt x="236078" y="1400"/>
                </a:lnTo>
                <a:close/>
              </a:path>
              <a:path fill="darkenLess" w="237478" h="21600">
                <a:moveTo>
                  <a:pt x="237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078" y="20200"/>
                </a:lnTo>
                <a:close/>
              </a:path>
              <a:path fill="lighten" w="237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f0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well did I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02:26:04Z</dcterms:created>
  <dc:creator>Natale</dc:creator>
  <dc:description/>
  <dc:language>en-US</dc:language>
  <cp:lastModifiedBy>jnatale</cp:lastModifiedBy>
  <dcterms:modified xsi:type="dcterms:W3CDTF">2009-02-19T18:50:31Z</dcterms:modified>
  <cp:revision>17</cp:revision>
  <dc:subject/>
  <dc:title>Slide 1</dc:title>
</cp:coreProperties>
</file>